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43088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430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2160" y="430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2437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5120" y="2437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43088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43088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5120" y="43088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09480" y="2437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09480" y="1294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9480" y="430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2437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92160" y="430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3088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09480" y="43088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480" y="430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92160" y="430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7480" y="2437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865120" y="2437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09480" y="43088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7480" y="43088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865120" y="43088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1294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430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2160" y="430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43088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685800" y="380880"/>
            <a:ext cx="1447920" cy="505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87a"/>
                </a:solidFill>
                <a:latin typeface="Palatino Linotype"/>
              </a:rPr>
              <a:t>Click to edit the title text format</a:t>
            </a: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437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"/>
          <p:cNvSpPr/>
          <p:nvPr/>
        </p:nvSpPr>
        <p:spPr>
          <a:xfrm>
            <a:off x="5105520" y="561960"/>
            <a:ext cx="320040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153280" y="6234120"/>
            <a:ext cx="63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AD311-765A-4DE6-9E49-A228F234913A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685800" y="380880"/>
            <a:ext cx="1447920" cy="505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1" lang="en-US" sz="6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lvl="1" marL="4572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560" y="1988640"/>
            <a:ext cx="8713800" cy="30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Palatino Linotype"/>
              </a:rPr>
              <a:t>Water  Supply and Sanitation SWAPs</a:t>
            </a:r>
            <a:r>
              <a:rPr b="1" lang="en-US" sz="4000" spc="-1" strike="noStrike">
                <a:solidFill>
                  <a:srgbClr val="ffffff"/>
                </a:solidFill>
                <a:latin typeface="Palatino Linotype"/>
              </a:rPr>
              <a:t> </a:t>
            </a:r>
            <a:br>
              <a:rPr sz="4000"/>
            </a:b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What would it take to accelerate WSS SWAps in Africa?</a:t>
            </a:r>
            <a:br>
              <a:rPr sz="2400"/>
            </a:br>
            <a:br>
              <a:rPr sz="4000"/>
            </a:b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EUWI Finance Working Group</a:t>
            </a:r>
            <a:br>
              <a:rPr sz="2800"/>
            </a:b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Stockholm, August 25 2006</a:t>
            </a:r>
            <a:br>
              <a:rPr sz="6700"/>
            </a:br>
            <a:endParaRPr b="1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323640" y="5768640"/>
            <a:ext cx="73911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Meera Mehta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Water and Sanitation Program – Africa 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09480" y="162864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upport activities by Water and Sanitation Program in Africa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To assist governments in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improving sector readiness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– approach and country process for sector financing strategies (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SWIFT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), sector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budget and MTEF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, and sector information and monitoring systems (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SIMS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) – adapt tools with lessons from country support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Country-owned MDG road maps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– support consultation process at country level to develop sector program and investment plan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upport opportunities for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south-south learning and experience sharing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09480" y="1557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 </a:t>
            </a:r>
            <a:r>
              <a:rPr b="1" lang="en-US" sz="2800" spc="-1" strike="noStrike">
                <a:solidFill>
                  <a:srgbClr val="cc3300"/>
                </a:solidFill>
                <a:latin typeface="Palatino Linotype"/>
              </a:rPr>
              <a:t>word of caution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– areas of concern: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Readiness of donors – continuing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need for attribution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and recent reemergence of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fiduciary concerns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makes additional demands on SWAp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Inadequate focus on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sector information and monitoring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– the weak link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Sanitation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continues to be a difficult issue – multi-ministerial mandates and lack of agreement on ‘right’ approaches make it difficult to ensure ‘sector readiness’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64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87a"/>
                </a:solidFill>
                <a:latin typeface="Palatino Linotype"/>
              </a:rPr>
              <a:t>Thank You</a:t>
            </a: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3499920"/>
            <a:ext cx="777240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87a"/>
                </a:solidFill>
                <a:latin typeface="Palatino Linotype"/>
              </a:rPr>
              <a:t>Outline</a:t>
            </a: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11280" y="2421000"/>
            <a:ext cx="7772400" cy="38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 reminder –what is </a:t>
            </a:r>
            <a:r>
              <a:rPr b="1" lang="en-US" sz="2800" spc="-1" strike="noStrike">
                <a:solidFill>
                  <a:srgbClr val="cc3300"/>
                </a:solidFill>
                <a:latin typeface="Palatino Linotype"/>
              </a:rPr>
              <a:t>SWAp and its benefits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Lessons from </a:t>
            </a:r>
            <a:r>
              <a:rPr b="1" lang="en-US" sz="2800" spc="-1" strike="noStrike">
                <a:solidFill>
                  <a:srgbClr val="cc3300"/>
                </a:solidFill>
                <a:latin typeface="Palatino Linotype"/>
              </a:rPr>
              <a:t>country experience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What is needed to </a:t>
            </a:r>
            <a:r>
              <a:rPr b="1" lang="en-US" sz="2800" spc="-1" strike="noStrike">
                <a:solidFill>
                  <a:srgbClr val="cc3300"/>
                </a:solidFill>
                <a:latin typeface="Palatino Linotype"/>
              </a:rPr>
              <a:t>accelerate / increase SWAps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in WSS?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nd, a </a:t>
            </a:r>
            <a:r>
              <a:rPr b="1" lang="en-US" sz="2800" spc="-1" strike="noStrike">
                <a:solidFill>
                  <a:srgbClr val="cc3300"/>
                </a:solidFill>
                <a:latin typeface="Palatino Linotype"/>
              </a:rPr>
              <a:t>word of caution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09120" y="1267920"/>
            <a:ext cx="81392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20480" indent="-420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 reminder – what is SWAp?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4204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70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Palatino Linotype"/>
              </a:rPr>
              <a:t>Most significant public funding for the sector supports a 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70760" indent="-350280">
              <a:spcBef>
                <a:spcPts val="60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Palatino Linotype"/>
              </a:rPr>
              <a:t>single sector policy and expenditure program under government leadership, 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70760" indent="-350280">
              <a:spcBef>
                <a:spcPts val="60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Palatino Linotype"/>
              </a:rPr>
              <a:t>adopting common approaches across the sector, and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70760" indent="-350280">
              <a:spcBef>
                <a:spcPts val="60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Palatino Linotype"/>
              </a:rPr>
              <a:t>progressing towards relying on government procedures</a:t>
            </a:r>
            <a:r>
              <a:rPr b="0" i="1" lang="en-U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70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Palatino Linotype"/>
              </a:rPr>
              <a:t>to disburse and account for all public expenditure, however funded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4204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Palatino Linotype"/>
            </a:endParaRPr>
          </a:p>
          <a:p>
            <a:pPr marL="420480" indent="-420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But it is </a:t>
            </a:r>
            <a:r>
              <a:rPr b="1" lang="en-US" sz="2800" spc="-1" strike="noStrike">
                <a:solidFill>
                  <a:srgbClr val="cc3300"/>
                </a:solidFill>
                <a:latin typeface="Palatino Linotype"/>
              </a:rPr>
              <a:t>not necessarily Budget Support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and </a:t>
            </a:r>
            <a:r>
              <a:rPr b="1" lang="en-US" sz="2800" spc="-1" strike="noStrike">
                <a:solidFill>
                  <a:srgbClr val="cc3300"/>
                </a:solidFill>
                <a:latin typeface="Palatino Linotype"/>
              </a:rPr>
              <a:t>Pooled Funds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are not a must!!!!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09480" y="1628640"/>
            <a:ext cx="777240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otential Benefits of a SWAp for the Client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Uniform approach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and rules makes consistent implementation and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scaling up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easier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trengthens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government’s own systems and enhances ownership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Over time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reduces transaction costs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for aid coordination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Enhances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predictability for external financing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treamlines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monitoring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and reporting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250560" y="1484280"/>
            <a:ext cx="856908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revailing WSS sector context in many African countries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804240" indent="-3654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A large number of donors and funders – but with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own priorities and rules of engagement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, making it difficult to have coherent sector budgets and allocation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804240" indent="-3654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Generally a sector policy exists – but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lack of a costed program and financing strategy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, making it difficult to implement the policy, and monitoring continues to be the weak link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804240" indent="-3654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Enclave projects continue to be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islands of excellence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that fail to build up local systems, making them unsustainable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427280" y="404280"/>
            <a:ext cx="453708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87a"/>
                </a:solidFill>
                <a:latin typeface="Palatino Linotype"/>
              </a:rPr>
              <a:t>Country Experiences</a:t>
            </a:r>
            <a:endParaRPr b="1" lang="en-US" sz="32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Palatino Linotype"/>
              </a:rPr>
              <a:t>Uganda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– leader, successful SWAp, PRSC for RWS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Palatino Linotype"/>
              </a:rPr>
              <a:t>Tanzania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– emerging for RWSS SWAp, jointly by government and donors 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Palatino Linotype"/>
              </a:rPr>
              <a:t>Kenya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– reforms in place; systematic approach to donor coordination and attempt to address sector readiness (SIP, financing strategy)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Palatino Linotype"/>
              </a:rPr>
              <a:t>Zambia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– emerging experience for RWSS SWAp, jointly by government and donors, attempt to evolve sector readiness (financing strategy)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Palatino Linotype"/>
              </a:rPr>
              <a:t>Benin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- emerging experience for RWSS SWAp, jointly by government and donors (agreed sector strategy, financing strategy, monitoring)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Palatino Linotype"/>
              </a:rPr>
              <a:t>Senegal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– emerging experience linked to MDG Road Map (SIP, sector information and monitoring)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Palatino Linotype"/>
              </a:rPr>
              <a:t>Burkina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– emerging experience linked to MDG Road Map, Development of a Sector Budget Program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Palatino Linotype"/>
              </a:rPr>
              <a:t>Mozambique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– attempted but not successfully in the past, 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Palatino Linotype"/>
              </a:rPr>
              <a:t>Ethiopia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– government has used the approach in the Bank project to guide sector investments and initiated work on financing strategy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50560" y="1197000"/>
            <a:ext cx="8497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 Linotype"/>
              </a:rPr>
              <a:t>SWAp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Palatino Linotype"/>
              </a:rPr>
              <a:t>Building Blocks</a:t>
            </a:r>
            <a:r>
              <a:rPr b="1" lang="en-US" sz="2800" spc="-1" strike="noStrike">
                <a:solidFill>
                  <a:srgbClr val="000000"/>
                </a:solidFill>
                <a:latin typeface="Palatino Linotype"/>
              </a:rPr>
              <a:t> at country level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4341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Palatino Linotype"/>
            </a:endParaRPr>
          </a:p>
          <a:p>
            <a:pPr marL="434160" indent="-43416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Sector Readiness for SWAp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95960" indent="-361800">
              <a:spcBef>
                <a:spcPts val="55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 Linotype"/>
              </a:rPr>
              <a:t>Sector Policy and </a:t>
            </a:r>
            <a:r>
              <a:rPr b="1" lang="en-US" sz="2200" spc="-1" strike="noStrike">
                <a:solidFill>
                  <a:srgbClr val="cc3300"/>
                </a:solidFill>
                <a:latin typeface="Palatino Linotype"/>
              </a:rPr>
              <a:t>Strategy with Government leadership</a:t>
            </a:r>
            <a:endParaRPr b="0" lang="en-US" sz="2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95960" indent="-361800">
              <a:spcBef>
                <a:spcPts val="55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 Linotype"/>
              </a:rPr>
              <a:t>Budget and MTEF-linked </a:t>
            </a:r>
            <a:r>
              <a:rPr b="1" lang="en-US" sz="2200" spc="-1" strike="noStrike">
                <a:solidFill>
                  <a:srgbClr val="cc3300"/>
                </a:solidFill>
                <a:latin typeface="Palatino Linotype"/>
              </a:rPr>
              <a:t>Sector Program</a:t>
            </a:r>
            <a:r>
              <a:rPr b="0" lang="en-US" sz="22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95960" indent="-361800">
              <a:spcBef>
                <a:spcPts val="55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 Linotype"/>
              </a:rPr>
              <a:t>Sector </a:t>
            </a:r>
            <a:r>
              <a:rPr b="1" lang="en-US" sz="2200" spc="-1" strike="noStrike">
                <a:solidFill>
                  <a:srgbClr val="cc3300"/>
                </a:solidFill>
                <a:latin typeface="Palatino Linotype"/>
              </a:rPr>
              <a:t>Information and Performance Monitoring</a:t>
            </a:r>
            <a:r>
              <a:rPr b="0" lang="en-US" sz="2200" spc="-1" strike="noStrike">
                <a:solidFill>
                  <a:srgbClr val="000000"/>
                </a:solidFill>
                <a:latin typeface="Palatino Linotype"/>
              </a:rPr>
              <a:t> System</a:t>
            </a:r>
            <a:endParaRPr b="0" lang="en-US" sz="2200" spc="-1" strike="noStrike">
              <a:solidFill>
                <a:srgbClr val="000000"/>
              </a:solidFill>
              <a:latin typeface="Palatino Linotype"/>
            </a:endParaRPr>
          </a:p>
          <a:p>
            <a:pPr marL="434160" indent="-43416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Harmonization and consultation processe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95960" indent="-361800">
              <a:spcBef>
                <a:spcPts val="550"/>
              </a:spcBef>
              <a:buClr>
                <a:srgbClr val="000000"/>
              </a:buClr>
              <a:buFont typeface="Palatino Linotype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 Linotype"/>
              </a:rPr>
              <a:t>Formal </a:t>
            </a:r>
            <a:r>
              <a:rPr b="1" lang="en-US" sz="2200" spc="-1" strike="noStrike">
                <a:solidFill>
                  <a:srgbClr val="cc3300"/>
                </a:solidFill>
                <a:latin typeface="Palatino Linotype"/>
              </a:rPr>
              <a:t>donor coordination</a:t>
            </a:r>
            <a:r>
              <a:rPr b="0" lang="en-US" sz="2200" spc="-1" strike="noStrike">
                <a:solidFill>
                  <a:srgbClr val="000000"/>
                </a:solidFill>
                <a:latin typeface="Palatino Linotype"/>
              </a:rPr>
              <a:t> process and </a:t>
            </a:r>
            <a:r>
              <a:rPr b="1" lang="en-US" sz="2200" spc="-1" strike="noStrike">
                <a:solidFill>
                  <a:srgbClr val="cc3300"/>
                </a:solidFill>
                <a:latin typeface="Palatino Linotype"/>
              </a:rPr>
              <a:t>partnership principles</a:t>
            </a:r>
            <a:endParaRPr b="0" lang="en-US" sz="2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95960" indent="-361800">
              <a:spcBef>
                <a:spcPts val="550"/>
              </a:spcBef>
              <a:buClr>
                <a:srgbClr val="000000"/>
              </a:buClr>
              <a:buFont typeface="Palatino Linotype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 Linotype"/>
              </a:rPr>
              <a:t>Process towards </a:t>
            </a:r>
            <a:r>
              <a:rPr b="1" lang="en-US" sz="2200" spc="-1" strike="noStrike">
                <a:solidFill>
                  <a:srgbClr val="cc3300"/>
                </a:solidFill>
                <a:latin typeface="Palatino Linotype"/>
              </a:rPr>
              <a:t>harmonizing government/donor fiduciary and safeguard processes </a:t>
            </a:r>
            <a:r>
              <a:rPr b="0" lang="en-US" sz="2200" spc="-1" strike="noStrike">
                <a:solidFill>
                  <a:srgbClr val="000000"/>
                </a:solidFill>
                <a:latin typeface="Palatino Linotype"/>
              </a:rPr>
              <a:t>(FM, procurement, env/social)</a:t>
            </a:r>
            <a:endParaRPr b="0" lang="en-US" sz="2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95960" indent="-361800">
              <a:spcBef>
                <a:spcPts val="550"/>
              </a:spcBef>
              <a:buClr>
                <a:srgbClr val="000000"/>
              </a:buClr>
              <a:buFont typeface="Palatino Linotype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 Linotype"/>
              </a:rPr>
              <a:t>Systematic mechanisms for </a:t>
            </a:r>
            <a:r>
              <a:rPr b="1" lang="en-US" sz="2200" spc="-1" strike="noStrike">
                <a:solidFill>
                  <a:srgbClr val="cc3300"/>
                </a:solidFill>
                <a:latin typeface="Palatino Linotype"/>
              </a:rPr>
              <a:t>stakeholder consultation</a:t>
            </a:r>
            <a:r>
              <a:rPr b="0" lang="en-US" sz="2200" spc="-1" strike="noStrike">
                <a:solidFill>
                  <a:srgbClr val="000000"/>
                </a:solidFill>
                <a:latin typeface="Palatino Linotype"/>
              </a:rPr>
              <a:t> and </a:t>
            </a:r>
            <a:r>
              <a:rPr b="1" lang="en-US" sz="2200" spc="-1" strike="noStrike">
                <a:solidFill>
                  <a:srgbClr val="cc3300"/>
                </a:solidFill>
                <a:latin typeface="Palatino Linotype"/>
              </a:rPr>
              <a:t>capacity building</a:t>
            </a:r>
            <a:endParaRPr b="0" lang="en-US" sz="2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87a"/>
                </a:solidFill>
                <a:latin typeface="Palatino Linotype"/>
              </a:rPr>
              <a:t>Possible Links to Financing Modalities</a:t>
            </a:r>
            <a:endParaRPr b="1" lang="en-US" sz="3200" spc="-1" strike="noStrike">
              <a:solidFill>
                <a:srgbClr val="00687a"/>
              </a:solidFill>
              <a:latin typeface="Palatino Linotype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11280" y="2060640"/>
            <a:ext cx="7777080" cy="424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50920" y="6394320"/>
            <a:ext cx="792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Iyer P. et. al. 2006. “Budget Support Primer.”, World Ban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2066760"/>
            <a:ext cx="2124000" cy="6426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SWA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Building Bl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19280" y="2708280"/>
            <a:ext cx="576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19280" y="2708280"/>
            <a:ext cx="50472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19280" y="2781360"/>
            <a:ext cx="504720" cy="17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19280" y="2781360"/>
            <a:ext cx="50472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19280" y="2781360"/>
            <a:ext cx="504720" cy="32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524720" y="3716280"/>
            <a:ext cx="1619280" cy="9169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Improved predict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7524720" y="4365720"/>
            <a:ext cx="216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84720" y="5451480"/>
            <a:ext cx="2158920" cy="9169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Varying mix of external financ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4645080" y="4436640"/>
            <a:ext cx="50328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148360" y="4437000"/>
            <a:ext cx="5032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148360" y="4724280"/>
            <a:ext cx="129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09480" y="1557360"/>
            <a:ext cx="828360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Lessons from country experiences…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8380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trong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government leadership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essential especially from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and the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Sector ministry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8380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takeholder consultations (with regular fora for joint decisions) help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build confidence and enhance ownership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of the strategies and SIP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8380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Getting the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basics right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is important in each SWAp building block – but need to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start with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what is possible and adapt sequencing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to local country realitie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4T23:05:23Z</dcterms:created>
  <dc:creator>Addison</dc:creator>
  <dc:description/>
  <dc:language>en-US</dc:language>
  <cp:lastModifiedBy>Vanessa Celosse</cp:lastModifiedBy>
  <cp:lastPrinted>2003-08-13T21:38:48Z</cp:lastPrinted>
  <dcterms:modified xsi:type="dcterms:W3CDTF">2006-08-25T05:13:12Z</dcterms:modified>
  <cp:revision>353</cp:revision>
  <dc:subject/>
  <dc:title>PowerPoint Presentation</dc:title>
</cp:coreProperties>
</file>